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B25-9C64-4A2D-806C-76272516892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42D-BFC6-4ABA-9485-66A037294DE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45CA-7BE9-4B13-B396-3A75986F40C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C360-2264-439E-9869-6D33362BBAB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BF5-6590-400A-8FA3-66A7A014C18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E221-4A04-4E1B-A8D0-24D6FBC0D52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F3E-6F28-4383-B839-2E3D6D20A2D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3BFB-56F7-442D-B5E0-12C55750489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A75-57D9-4901-B27E-72BA41D6AA0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0B8-28F0-453C-8FE9-8AAF1CD1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983-6C17-4B46-8412-8FA8C76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24D-8364-4DC6-B313-D226D562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1D8-D216-4E01-82F1-361FE4BF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208B-BF42-4B21-AB5F-11CFB30A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B829-E0EE-4B13-B0D5-C3B0E23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F430-457B-4CD8-8651-BA8EEF88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D3E5-0506-43F6-B009-82AE59D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EDB-AC06-435F-885C-A35E4238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4EB0-569F-488D-87CC-0A65301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A706-FFBF-4786-8C9F-AB6767F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577-CD0B-4255-8873-1088AF7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4DA9-0A73-4CFD-BDD5-3C1A21C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D23-DE78-4848-B638-4379E17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CB8E-A2A8-4636-B70D-6CE4298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FCD-6594-475C-9726-CC932231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D5A1-262C-48A4-9CF3-86E4AF61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2F18-F8C1-45B3-9CAE-B5BBC596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206B-F5B7-4B23-A35C-67AD649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C07D-79CF-40F3-882B-5F9D0E6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AA1C-F94E-4169-BE3F-8DB02B0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3915-8563-4CBF-A0D4-A94E101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4FE-E0B3-4FEE-AF6E-55401FE6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F540-17FA-423A-9199-B11F8033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3886-3059-45B1-83B7-7238986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D970-2626-4383-856D-94438E7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025C-5083-4A42-86D5-82209F9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E883-D131-4BB5-970F-D97630F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6BE8-63D2-4E3A-83E5-64E4EAE4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7E19-7B0E-4C29-9F4F-BE326825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4E4D-715E-4285-AC2F-F3616825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55EF-14A6-4DD2-A15B-7B75A8C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C1FF-4034-4946-A401-0CC986E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9E9-CE60-41A9-8E54-B5797A82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09ED-C998-46DD-B682-AFB8EA9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4362-F762-40E5-84FB-1F08C73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D0AC-72E5-4925-8ADB-4BB32752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29C7-2E62-4D19-A304-17C9CB7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9F2F-311A-4B32-B679-E163586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E4DF-EA4D-4B81-931B-5553DF1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4278-BE77-47A6-B587-4302398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B7C7-494A-4DF1-BCB7-36F66030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48A2-A793-4CC3-ABE6-F7F13507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D47D-81C8-44BE-958F-DB0FA954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B15-8EEF-4F4F-9470-FEFE7C0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E4099-2628-4C18-A80A-7603367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BD4A-1B8E-44D8-8327-24FE3EAD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3798-57E6-4ECD-B80B-474E90EB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4F4C-73E6-45DF-AE50-F6C8DE9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9B12-4D56-4A89-BF57-47ABF942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BAE7-8655-43C8-A8F7-90D9FB3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5C5A-9D8D-41C6-80AF-8AB37CF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FC24-6396-44B9-9020-494BEEA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4878-E8D8-45F0-9EF2-2E4C786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3F21-41A8-4321-9A92-1C62A8D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427-EBBE-43DA-A8BD-B69725F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58D3-BA04-401A-9D1A-0A7D90C1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C387E-6B7B-4DFA-8AD7-ED241D20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5026-CC02-4895-8CE0-A6859EE0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4346-30A0-4104-905D-2ACBD657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4C16-72DC-4E3C-9E7F-FFB41D6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813B-9296-4177-AE87-A6C33E1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E601-3858-45F0-A162-DC0F951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EE7D-22C7-496D-AD8E-5D0C7F0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1948D-1E54-481E-847A-1F000FE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8176-E7A6-44CE-A1D9-2C95FF8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10D-B024-4885-9F8C-22F18C7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964B-DFFB-425F-B393-CE7D371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B9E5-34D6-4632-B99E-4B7FF6EB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523E-2A73-4E4C-AFDD-305FAC83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364B7-FF7A-4CB7-8E20-C28C3A5D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361E-697E-4D98-9D6B-76E08D5D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BD10-2C50-49D4-AC39-3639745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56C8-7B1E-4EFB-BF84-C07AC67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DA10-10F0-417A-8D41-5DA0092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6665-E5E8-4E56-9DC1-41530A9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D893-2F75-49BA-9FD6-6D3A291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0F8-1FA2-4FB4-9C40-12A9B0A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D4BA-4EF1-4705-AFCC-13662DA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CCA8-B315-4B5E-A21C-E851786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D287D-FF66-454E-88A8-F911EEE5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B061-DD5C-4AC4-94FC-DEB5885F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1A62-98DD-4BBD-9B45-C29F2B74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EB7-42AC-4E63-BA7B-613AA928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169-9A22-40D0-ACD4-3CC3198B8A3D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D75-25E9-4F64-A48F-F3AFA4B7D4F8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80A6-06C4-4FC0-AAE9-8734BCC5FC19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03C0-C226-470F-B36B-2FF1ECF4989E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351-030A-4394-B114-BC15CA3D16C9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626B-B3EE-4430-939B-5A3DC8A6047E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3A4-8777-4E6E-89AE-9780D957AB21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300" spc="-1" strike="noStrike">
                <a:solidFill>
                  <a:srgbClr val="572314"/>
                </a:solidFill>
                <a:latin typeface="Gill Sans MT"/>
              </a:rPr>
              <a:t>Embedding ICT into teaching through e-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TextBox 4" descr=""/>
          <p:cNvPicPr/>
          <p:nvPr/>
        </p:nvPicPr>
        <p:blipFill>
          <a:blip r:embed="rId1"/>
          <a:stretch/>
        </p:blipFill>
        <p:spPr>
          <a:xfrm>
            <a:off x="3584520" y="3913200"/>
            <a:ext cx="3438720" cy="233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7534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2551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5"/>
          <p:cNvSpPr/>
          <p:nvPr/>
        </p:nvSpPr>
        <p:spPr>
          <a:xfrm>
            <a:off x="6781680" y="4648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Gill Sans MT"/>
              </a:rPr>
              <a:t>Foundations for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are ICT’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2" name="TextBox 3"/>
          <p:cNvGrpSpPr/>
          <p:nvPr/>
        </p:nvGrpSpPr>
        <p:grpSpPr>
          <a:xfrm>
            <a:off x="1809720" y="1573200"/>
            <a:ext cx="7907400" cy="5849280"/>
            <a:chOff x="1809720" y="1573200"/>
            <a:chExt cx="7907400" cy="5849280"/>
          </a:xfrm>
        </p:grpSpPr>
        <p:pic>
          <p:nvPicPr>
            <p:cNvPr id="333" name="TextBox 3" descr=""/>
            <p:cNvPicPr/>
            <p:nvPr/>
          </p:nvPicPr>
          <p:blipFill>
            <a:blip r:embed="rId1"/>
            <a:stretch/>
          </p:blipFill>
          <p:spPr>
            <a:xfrm>
              <a:off x="1809720" y="1573200"/>
              <a:ext cx="790740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05120" y="1600200"/>
              <a:ext cx="5943600" cy="58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computer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laptop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PDA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digital camera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igital 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video camera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reativity and communication software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Internet </a:t>
              </a:r>
              <a:r>
                <a:rPr b="0" lang="en-NZ" sz="3600" spc="-1" strike="noStrike">
                  <a:solidFill>
                    <a:srgbClr val="000000"/>
                  </a:solidFill>
                  <a:latin typeface="Gill Sans MT"/>
                </a:rPr>
                <a:t>web2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blogs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wiki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Gill Sans MT"/>
                </a:rPr>
                <a:t>telephones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fax machines</a:t>
              </a:r>
              <a:r>
                <a:rPr b="0" lang="en-NZ" sz="4800" spc="-1" strike="noStrike">
                  <a:solidFill>
                    <a:srgbClr val="000000"/>
                  </a:solidFill>
                  <a:latin typeface="Gill Sans MT"/>
                </a:rPr>
                <a:t> mobiles 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tape recorder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interactive storie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simulated environment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omputer games programmable toys </a:t>
              </a:r>
              <a:r>
                <a:rPr b="0" lang="en-NZ" sz="4400" spc="-1" strike="noStrike">
                  <a:solidFill>
                    <a:srgbClr val="000000"/>
                  </a:solidFill>
                  <a:latin typeface="Gill Sans MT"/>
                </a:rPr>
                <a:t>videoconferencing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ata projector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interactive whiteboard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3200" spc="-1" strike="noStrike">
                  <a:solidFill>
                    <a:srgbClr val="000000"/>
                  </a:solidFill>
                  <a:latin typeface="Gill Sans MT"/>
                </a:rPr>
                <a:t>pen driv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ICT’s do you us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ave a chat with your neighbou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do you us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are ICT tool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ow confident are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oes using ICT improve outcomes for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 -NZ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7943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Information and communication technology (ICT) has a major impact on the world in which young people liv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imilarly, e-learning 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NZ" sz="2000" spc="-1" strike="noStrike">
                <a:solidFill>
                  <a:srgbClr val="922223"/>
                </a:solidFill>
                <a:latin typeface="Gill Sans MT"/>
              </a:rPr>
              <a:t>that is, learning supported by or facilitated by ICT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has considerable potential to support the teaching approaches outlined in the section below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For instance, e-learning may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assist the making of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connections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 by enabling students to enter and explore new learning environments, overcoming barriers of distance and ti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facilitate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shared learning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enabling students to join or create communities of learners that extend well beyond the classro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assist in the creation of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supportive learning environments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offering resources that take account of individual, cultural, or developmental differenc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enhance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opportunities to learn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offering students virtual experiences and tools that save them time, allowing them to take their learning furth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Gill Sans MT"/>
              </a:rPr>
              <a:t>Schools should explore not only how ICT can supplement traditional ways of teaching but also how it can open up new and different ways of learn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2357280" y="6688080"/>
            <a:ext cx="5410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5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5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572314"/>
                </a:solidFill>
                <a:latin typeface="Gill Sans MT"/>
              </a:rPr>
              <a:t>Where exactly does e-learning f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Content Placeholder 3" descr=""/>
          <p:cNvPicPr/>
          <p:nvPr/>
        </p:nvPicPr>
        <p:blipFill>
          <a:blip r:embed="rId1"/>
          <a:stretch/>
        </p:blipFill>
        <p:spPr>
          <a:xfrm>
            <a:off x="1139760" y="1163520"/>
            <a:ext cx="7650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342" name="Left-Right Arrow 5"/>
          <p:cNvGrpSpPr/>
          <p:nvPr/>
        </p:nvGrpSpPr>
        <p:grpSpPr>
          <a:xfrm>
            <a:off x="1676520" y="5888160"/>
            <a:ext cx="6662520" cy="774720"/>
            <a:chOff x="1676520" y="5888160"/>
            <a:chExt cx="6662520" cy="774720"/>
          </a:xfrm>
        </p:grpSpPr>
        <p:pic>
          <p:nvPicPr>
            <p:cNvPr id="343" name="Left-Right Arrow 5" descr=""/>
            <p:cNvPicPr/>
            <p:nvPr/>
          </p:nvPicPr>
          <p:blipFill>
            <a:blip r:embed="rId2"/>
            <a:stretch/>
          </p:blipFill>
          <p:spPr>
            <a:xfrm>
              <a:off x="1676520" y="5888160"/>
              <a:ext cx="6662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06560" y="6097680"/>
              <a:ext cx="6203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6"/>
          <p:cNvSpPr/>
          <p:nvPr/>
        </p:nvSpPr>
        <p:spPr>
          <a:xfrm>
            <a:off x="365760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Gill Sans MT"/>
              </a:rPr>
              <a:t>E- learning and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7339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Gill Sans MT"/>
              </a:rPr>
              <a:t>Key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Blooms Digital Taxonom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47560" y="129492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Gill Sans MT"/>
              </a:rPr>
              <a:t>What does e-learning and ICT look like for students?  What could it look like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Diagram 3" descr=""/>
          <p:cNvPicPr/>
          <p:nvPr/>
        </p:nvPicPr>
        <p:blipFill>
          <a:blip r:embed="rId1"/>
          <a:stretch/>
        </p:blipFill>
        <p:spPr>
          <a:xfrm>
            <a:off x="530280" y="2127240"/>
            <a:ext cx="5499000" cy="4370400"/>
          </a:xfrm>
          <a:prstGeom prst="rect">
            <a:avLst/>
          </a:prstGeom>
          <a:ln w="0">
            <a:noFill/>
          </a:ln>
        </p:spPr>
      </p:pic>
      <p:pic>
        <p:nvPicPr>
          <p:cNvPr id="350" name="Diagram 5" descr=""/>
          <p:cNvPicPr/>
          <p:nvPr/>
        </p:nvPicPr>
        <p:blipFill>
          <a:blip r:embed="rId2"/>
          <a:stretch/>
        </p:blipFill>
        <p:spPr>
          <a:xfrm>
            <a:off x="3425760" y="1974960"/>
            <a:ext cx="595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900" spc="-1" strike="noStrike">
                <a:solidFill>
                  <a:srgbClr val="572314"/>
                </a:solidFill>
                <a:latin typeface="Gill Sans MT"/>
              </a:rPr>
              <a:t>Effective e-learning Practic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71720" y="1447920"/>
            <a:ext cx="7929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Gill Sans MT"/>
              </a:rPr>
              <a:t>A focus on purpose is important in all learning areas and in e-learning.</a:t>
            </a:r>
            <a:br>
              <a:rPr sz="1300"/>
            </a:br>
            <a:br>
              <a:rPr sz="1300"/>
            </a:br>
            <a:br>
              <a:rPr sz="1300"/>
            </a:b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ome things to think about</a:t>
            </a:r>
            <a:br>
              <a:rPr sz="1600"/>
            </a:b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Use activites with whole class or group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Wiki can be used for home lin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Whole class and a learning object on the data projector to work through togeth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Give students the mouse while working in a group - (consider wireless Bluetooth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tudents demonstrating using a learning object or activit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2-3 students working together on activities at comput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tudents showing each other or demonstrating their learning to other stud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 they lead to any hands on follow up activites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Targeting Maori and Pacifika or other learing needs - eg extens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n't be restricted by level eg a upper primary learning object could be used with Juniors with suppor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n't be restricted by learning area eg an english learning object might have maths cont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out of class work (eek homework!) on a wiki for stud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3:12:42Z</dcterms:created>
  <dc:creator>roban31p</dc:creator>
  <dc:description/>
  <dc:language>en-US</dc:language>
  <cp:lastModifiedBy>roban31p</cp:lastModifiedBy>
  <dcterms:modified xsi:type="dcterms:W3CDTF">2009-07-30T01:54:31Z</dcterms:modified>
  <cp:revision>5</cp:revision>
  <dc:subject/>
  <dc:title>E-learning and Literacy</dc:title>
</cp:coreProperties>
</file>